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737133"/>
        <c:axId val="51535399"/>
      </c:barChart>
      <c:catAx>
        <c:axId val="307371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35399"/>
        <c:crosses val="autoZero"/>
        <c:auto val="1"/>
        <c:lblAlgn val="ctr"/>
        <c:lblOffset val="100"/>
        <c:noMultiLvlLbl val="0"/>
      </c:catAx>
      <c:valAx>
        <c:axId val="515353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7371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3BE0-96AA-4530-A34F-3A57C0609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D6DB-329A-49B8-A376-319E5DB8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87BD-88EA-4140-B2B5-19E1B5BD8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9F85-A519-4D02-BB8E-6C5AFE70B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0504-B1CB-4EC3-9E3A-D51AD17E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12A3-438A-461E-9947-06FAF8C5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C844-14E5-4077-9759-6F2E240E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6652-D4BC-4620-81AE-8AE3789D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0B53-3ED4-4CD8-AC14-75908F80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8917-31E9-46A0-8A13-D53EF762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75CC-0822-451E-9670-A1289B7F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E16F-6FD5-4ACF-A467-38905E4D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3567A-0083-4338-AFB8-CBD7ABE495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