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96409"/>
        <c:axId val="87249239"/>
      </c:barChart>
      <c:catAx>
        <c:axId val="86696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49239"/>
        <c:crosses val="autoZero"/>
        <c:auto val="1"/>
        <c:lblAlgn val="ctr"/>
        <c:lblOffset val="100"/>
        <c:noMultiLvlLbl val="0"/>
      </c:catAx>
      <c:valAx>
        <c:axId val="87249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96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021-5F19-40E0-9075-F64BA33E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A97-C4D1-4593-9A4F-F694642D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B4F-B15A-4B0B-B6B3-30801956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9A8-87C0-4FFC-A319-93FC1D73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7C2-5D1D-47A6-A049-B9B34297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242-C535-4408-AD31-D57F0AC8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08A-201C-415E-8E0A-BA7A6CDB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1D4-E6B2-47C6-940C-7364B66F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15A-A041-4A15-A6AB-01954023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B1E-DA09-4FE8-8636-C8823CE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3E2-0873-47CD-99AB-96B5C80A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D86-326C-4CA9-BD11-41ADDF6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DC8D6-5F97-4251-8C18-3772E9F9C4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