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18677"/>
        <c:axId val="64125506"/>
      </c:barChart>
      <c:catAx>
        <c:axId val="25418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25506"/>
        <c:crosses val="autoZero"/>
        <c:auto val="1"/>
        <c:lblAlgn val="ctr"/>
        <c:lblOffset val="100"/>
        <c:noMultiLvlLbl val="0"/>
      </c:catAx>
      <c:valAx>
        <c:axId val="6412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18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BA8-DAC6-4109-B98B-D10A3F6B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0A6-0665-4736-A035-B0B9ED0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9D0-A993-4EAE-A1C9-A76450B1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D09-72A9-414B-B20F-C947B88B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D25-0C4A-44B1-A626-9BBD204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0E4-1872-4632-BA44-12AA35F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68C-B923-47F3-A289-2640CD6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235-259D-49E1-91D6-2B86BE39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492-B202-44F7-A25E-92748AEB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43A-CE55-4155-BB7B-5C6A89F9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A07-9747-4B91-B323-9227456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4D2-A7A6-432F-BDC5-E8223A6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C2E0-90A8-42B6-99CE-9AEB41740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