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94670"/>
        <c:axId val="11363555"/>
      </c:barChart>
      <c:catAx>
        <c:axId val="89794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63555"/>
        <c:crosses val="autoZero"/>
        <c:auto val="1"/>
        <c:lblAlgn val="ctr"/>
        <c:lblOffset val="100"/>
        <c:noMultiLvlLbl val="0"/>
      </c:catAx>
      <c:valAx>
        <c:axId val="11363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94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527-FAE5-4075-8B6B-25399A91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E9DF-B4C5-4D07-87DB-BEC546A2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2EC-0EAE-4330-92D2-DB9B85E2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1AAE-3BA6-41D2-92E1-4C9843E9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1D82-65AB-482C-840D-E5A46733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CE6-5DE3-4976-8589-B2A5DF24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5A9-FC2E-4DFB-A4F6-2BAF8235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36B-4BB1-4241-A750-50165B43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97C-359E-45BD-8B56-060CB269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089-3955-46AB-A341-95DD4A53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DC7-0C66-403B-BEA3-28EAA7E7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D08-AB12-4D42-B373-D53BCF10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EE212-7D89-48F4-83D8-E3CE2F578D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