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16219"/>
        <c:axId val="31170306"/>
      </c:barChart>
      <c:catAx>
        <c:axId val="84316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70306"/>
        <c:crosses val="autoZero"/>
        <c:auto val="1"/>
        <c:lblAlgn val="ctr"/>
        <c:lblOffset val="100"/>
        <c:noMultiLvlLbl val="0"/>
      </c:catAx>
      <c:valAx>
        <c:axId val="31170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16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BCD-8ACD-40F9-865D-87D24570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EC7-8849-4E43-840B-0BC17434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4CD-26C7-499D-B0F6-94B2026E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806-5AAA-468A-980B-769E424D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E64-5C0F-4DBB-96E4-C2F3BF14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46B-3185-43D7-B710-CC0C5DFD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9A3-49AA-4316-A7DD-D4485231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0C3-D58F-43AB-8644-5CCC2F72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58D-8BB4-4C7F-9C59-58C0586E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76E-7E15-40A8-8FF8-AD35B97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F95-7004-4F30-9D05-BB3F19C7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E4C-B8C4-4178-BD10-0F38E80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CEA92-3148-448A-B9D9-6A9FECCD0A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